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A46-374C-4F79-B35D-4E852F5F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96C-5938-47CC-B081-674D3232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7C9-BC2C-4AED-A377-11E95063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3A5-50CA-44E5-AF70-2F9F8D1D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766E-2577-4A4F-B64C-2E1FE093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B7A3-4465-4D2C-8B80-46E4C00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8A7A-7AF5-4C71-8C26-ACFB883A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4D1-8F92-4A18-9014-6443F33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3D3D-C7C6-41F1-8C97-AAF76CC2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659B-9E27-45D9-9A10-E49BB00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A11E-C922-46F2-A04F-B8CDA0B2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FF5-C032-4BDE-BC84-C71002E6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D770-5622-4EF9-A533-AA94C4D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527A-E4E1-405F-AD3C-5D395E7B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0A24-7176-493A-A370-8A4FA12F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3757-C7D5-427E-A6F5-C736F503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02CE-A88A-4AA5-82AA-CF6DF563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B5D-C097-4A98-A83D-37ED3A5A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0029-B5B2-481B-A1CB-1745A2CC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32E1-0798-45CC-9BFE-315E43C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8B6E-E298-4C07-80F5-5D3748C2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1F5-99BE-4193-B87A-A4326681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41B9-A3C7-4BF8-8C23-64A8F4E8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3DC2-3421-4763-88DA-8FD1EBB0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A871-30C3-4769-8E92-0199B182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6246-DE72-44FC-96B6-8638923A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C64A-A91A-4425-B874-0C5C043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17EB-0BA4-48EE-AEB7-F0AEB1C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B302-FE36-4738-B8F3-2F56C66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30BA-F609-44BF-8F0D-40D77BB8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DA58-D576-4AD8-A2F6-B62DD833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7A0D-7ED4-4290-99D0-3658FBB6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EF6-BE83-4459-AC79-6ABA81C2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5BDD-AD12-4B7C-A0DD-B3A6126D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336F7-062F-49E4-A9FF-4B530BDC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CC22-22D4-4A0C-8AD9-93D620B1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22239-1DBE-44C5-9CA4-CB82CE5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D509-73BE-48E1-84B4-2426CBEC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11777-D44B-449B-9CBB-58AB2F4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7A3F-6246-46A8-B15E-7D84176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EA3F-EF6E-48BB-A867-EBDDBC9B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FD22-291B-4306-A3F8-01CA0061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655C-7115-486A-BB63-7908EA5E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7D8-2C1F-4199-9AEA-D64E037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E0BC-FCC1-4ED4-B899-E2450AB0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7A47-FF4B-4749-89C9-83DF4519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525F-2EF9-4120-A923-8DFBEF0E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C160-662E-4876-B50A-1B7A7D8D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43E49-6EC8-4B26-B474-A76F6D5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9A443-28D5-4D02-B246-3AC55C38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ED63-1BF0-4913-9CAE-DF3023C4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E3EE-C974-4396-B891-4F1BEEA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06C3F-E78C-462F-8BAD-6E88F0F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535F-8501-4443-AC96-719BFA1E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E85-F0C0-4DC4-A593-4E6898A8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32EC-6592-439A-9221-E2055268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CB603-0356-4C06-B1F0-5452C590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4D78-222A-4784-B6E1-9E0B1B92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6F9-CC4C-4C6F-A669-19F3399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31A-85CC-4CDA-81F0-93FEB901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6AA-4503-46C5-9899-604ED262155D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Группа 14"/>
          <p:cNvGrpSpPr/>
          <p:nvPr/>
        </p:nvGrpSpPr>
        <p:grpSpPr>
          <a:xfrm>
            <a:off x="826920" y="1219320"/>
            <a:ext cx="7490160" cy="83880"/>
            <a:chOff x="826920" y="1219320"/>
            <a:chExt cx="7490160" cy="83880"/>
          </a:xfrm>
        </p:grpSpPr>
        <p:sp>
          <p:nvSpPr>
            <p:cNvPr id="6" name="Прямая соединительная линия 12"/>
            <p:cNvSpPr/>
            <p:nvPr/>
          </p:nvSpPr>
          <p:spPr>
            <a:xfrm flipH="1">
              <a:off x="826920" y="1219320"/>
              <a:ext cx="749016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7" name="Прямая соединительная линия 13"/>
            <p:cNvSpPr/>
            <p:nvPr/>
          </p:nvSpPr>
          <p:spPr>
            <a:xfrm flipH="1">
              <a:off x="826920" y="1303200"/>
              <a:ext cx="749016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46" name="Рисунок 10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F6D-BD57-4FE3-AC71-A20999B0479E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2"/>
          <p:cNvGrpSpPr/>
          <p:nvPr/>
        </p:nvGrpSpPr>
        <p:grpSpPr>
          <a:xfrm>
            <a:off x="0" y="5645160"/>
            <a:ext cx="9144000" cy="63360"/>
            <a:chOff x="0" y="5645160"/>
            <a:chExt cx="9144000" cy="63360"/>
          </a:xfrm>
        </p:grpSpPr>
        <p:sp>
          <p:nvSpPr>
            <p:cNvPr id="89" name="Прямая соединительная линия 10"/>
            <p:cNvSpPr/>
            <p:nvPr/>
          </p:nvSpPr>
          <p:spPr>
            <a:xfrm flipH="1">
              <a:off x="0" y="56451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1"/>
            <p:cNvSpPr/>
            <p:nvPr/>
          </p:nvSpPr>
          <p:spPr>
            <a:xfrm flipH="1">
              <a:off x="0" y="570852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grpSp>
        <p:nvGrpSpPr>
          <p:cNvPr id="91" name="Группа 13"/>
          <p:cNvGrpSpPr/>
          <p:nvPr/>
        </p:nvGrpSpPr>
        <p:grpSpPr>
          <a:xfrm>
            <a:off x="0" y="1143000"/>
            <a:ext cx="9144000" cy="63360"/>
            <a:chOff x="0" y="1143000"/>
            <a:chExt cx="9144000" cy="63360"/>
          </a:xfrm>
        </p:grpSpPr>
        <p:sp>
          <p:nvSpPr>
            <p:cNvPr id="92" name="Прямая соединительная линия 15"/>
            <p:cNvSpPr/>
            <p:nvPr/>
          </p:nvSpPr>
          <p:spPr>
            <a:xfrm>
              <a:off x="0" y="12063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6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94" name="Прямоугольник 17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96" name="Рисунок 9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97" name="Пояснительный текст"/>
          <p:cNvSpPr/>
          <p:nvPr/>
        </p:nvSpPr>
        <p:spPr>
          <a:xfrm>
            <a:off x="9258480" y="0"/>
            <a:ext cx="971280" cy="6858000"/>
          </a:xfrm>
          <a:custGeom>
            <a:avLst/>
            <a:gdLst>
              <a:gd name="textAreaLeft" fmla="*/ 27360 w 971280"/>
              <a:gd name="textAreaRight" fmla="*/ 943920 w 971280"/>
              <a:gd name="textAreaTop" fmla="*/ 27360 h 6858000"/>
              <a:gd name="textAreaBottom" fmla="*/ 6830640 h 6858000"/>
            </a:gdLst>
            <a:ahLst/>
            <a:rect l="textAreaLeft" t="textAreaTop" r="textAreaRight" b="textAreaBottom"/>
            <a:pathLst>
              <a:path w="21600" h="152464">
                <a:moveTo>
                  <a:pt x="2099" y="0"/>
                </a:moveTo>
                <a:arcTo wR="2099" hR="2099" stAng="16200000" swAng="-5400000"/>
                <a:lnTo>
                  <a:pt x="0" y="150365"/>
                </a:lnTo>
                <a:arcTo wR="2099" hR="2099" stAng="10800000" swAng="-5400000"/>
                <a:lnTo>
                  <a:pt x="19501" y="152464"/>
                </a:lnTo>
                <a:arcTo wR="2099" hR="2099" stAng="5400000" swAng="-5400000"/>
                <a:lnTo>
                  <a:pt x="21600" y="2099"/>
                </a:lnTo>
                <a:arcTo wR="2099" hR="2099" stAng="0" swAng="-5400000"/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1100" spc="-1" strike="noStrike">
              <a:solidFill>
                <a:srgbClr val="5148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Чтобы изменить изображение на этом слайде, выберите рисунок и удалите его. Затем нажмите значок "Рисунки" в заполнителе, чтобы вставить изображение.</a:t>
            </a:r>
            <a:endParaRPr b="0" lang="en-US" sz="12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 7"/>
          <p:cNvGrpSpPr/>
          <p:nvPr/>
        </p:nvGrpSpPr>
        <p:grpSpPr>
          <a:xfrm>
            <a:off x="0" y="2514600"/>
            <a:ext cx="9144000" cy="3193560"/>
            <a:chOff x="0" y="2514600"/>
            <a:chExt cx="9144000" cy="3193560"/>
          </a:xfrm>
        </p:grpSpPr>
        <p:grpSp>
          <p:nvGrpSpPr>
            <p:cNvPr id="137" name="Группа 8"/>
            <p:cNvGrpSpPr/>
            <p:nvPr/>
          </p:nvGrpSpPr>
          <p:grpSpPr>
            <a:xfrm>
              <a:off x="0" y="2514600"/>
              <a:ext cx="9144000" cy="63000"/>
              <a:chOff x="0" y="2514600"/>
              <a:chExt cx="9144000" cy="63000"/>
            </a:xfrm>
          </p:grpSpPr>
          <p:sp>
            <p:nvSpPr>
              <p:cNvPr id="138" name="Прямая соединительная линия 17"/>
              <p:cNvSpPr/>
              <p:nvPr/>
            </p:nvSpPr>
            <p:spPr>
              <a:xfrm>
                <a:off x="0" y="257760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8"/>
              <p:cNvSpPr/>
              <p:nvPr/>
            </p:nvSpPr>
            <p:spPr>
              <a:xfrm>
                <a:off x="0" y="251460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  <p:sp>
          <p:nvSpPr>
            <p:cNvPr id="140" name="Прямоугольник 9"/>
            <p:cNvSpPr/>
            <p:nvPr/>
          </p:nvSpPr>
          <p:spPr>
            <a:xfrm>
              <a:off x="0" y="2641320"/>
              <a:ext cx="9144000" cy="2940120"/>
            </a:xfrm>
            <a:prstGeom prst="rect">
              <a:avLst/>
            </a:prstGeom>
            <a:solidFill>
              <a:srgbClr val="514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grpSp>
          <p:nvGrpSpPr>
            <p:cNvPr id="141" name="Группа 10"/>
            <p:cNvGrpSpPr/>
            <p:nvPr/>
          </p:nvGrpSpPr>
          <p:grpSpPr>
            <a:xfrm>
              <a:off x="0" y="5645160"/>
              <a:ext cx="9144000" cy="63000"/>
              <a:chOff x="0" y="5645160"/>
              <a:chExt cx="9144000" cy="63000"/>
            </a:xfrm>
          </p:grpSpPr>
          <p:sp>
            <p:nvSpPr>
              <p:cNvPr id="142" name="Прямая соединительная линия 15"/>
              <p:cNvSpPr/>
              <p:nvPr/>
            </p:nvSpPr>
            <p:spPr>
              <a:xfrm flipH="1">
                <a:off x="0" y="564516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16"/>
              <p:cNvSpPr/>
              <p:nvPr/>
            </p:nvSpPr>
            <p:spPr>
              <a:xfrm flipH="1">
                <a:off x="0" y="570816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Рисунок 6" descr=""/>
          <p:cNvPicPr/>
          <p:nvPr/>
        </p:nvPicPr>
        <p:blipFill>
          <a:blip r:embed="rId2"/>
          <a:stretch/>
        </p:blipFill>
        <p:spPr>
          <a:xfrm>
            <a:off x="993600" y="0"/>
            <a:ext cx="1341720" cy="297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1CF6-39EA-4E40-BC54-1ED5DE2CD8CF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EB84-0217-4A82-861D-634C054601EC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9"/>
          <p:cNvGrpSpPr/>
          <p:nvPr/>
        </p:nvGrpSpPr>
        <p:grpSpPr>
          <a:xfrm>
            <a:off x="6966000" y="453960"/>
            <a:ext cx="63360" cy="5634000"/>
            <a:chOff x="6966000" y="453960"/>
            <a:chExt cx="63360" cy="5634000"/>
          </a:xfrm>
        </p:grpSpPr>
        <p:sp>
          <p:nvSpPr>
            <p:cNvPr id="228" name="Прямая соединительная линия 10"/>
            <p:cNvSpPr/>
            <p:nvPr/>
          </p:nvSpPr>
          <p:spPr>
            <a:xfrm flipV="1">
              <a:off x="7029360" y="453960"/>
              <a:ext cx="0" cy="563400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 8"/>
            <p:cNvSpPr/>
            <p:nvPr/>
          </p:nvSpPr>
          <p:spPr>
            <a:xfrm flipV="1">
              <a:off x="6966000" y="453960"/>
              <a:ext cx="0" cy="563400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2A32-ED89-4887-AFAA-F2E17DDAF871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8720" y="2292480"/>
            <a:ext cx="7572240" cy="2219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4843"/>
                </a:solidFill>
                <a:latin typeface="Plantagenet Cherokee"/>
              </a:rPr>
              <a:t>ПРОЕКТ «ОДАРЕННЫЙ УЧИТЕЛЬ = ОДАРЕННЫЙ РЕБЁНОК» </a:t>
            </a:r>
            <a:endParaRPr b="0" lang="en-US" sz="44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28720" y="4511160"/>
            <a:ext cx="75722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4843"/>
                </a:solidFill>
                <a:latin typeface="Euphemia"/>
              </a:rPr>
              <a:t>в Ульчском муниципальном районе</a:t>
            </a:r>
            <a:endParaRPr b="0" lang="en-US" sz="18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6" descr=""/>
          <p:cNvPicPr/>
          <p:nvPr/>
        </p:nvPicPr>
        <p:blipFill>
          <a:blip r:embed="rId1"/>
          <a:stretch/>
        </p:blipFill>
        <p:spPr>
          <a:xfrm>
            <a:off x="176040" y="0"/>
            <a:ext cx="8571240" cy="65959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22400"/>
            <a:ext cx="8204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2988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ояснительная записк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муниципальном районе уделяется пристальное внимание работе с одарёнными детьми, накоплен определенный опыт организации мероприятий, направленных на выявление талантливых детей, социальной поддержки школьников, имеющих особые достижения в различных видах деятельности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ыявление одарённых детей начинается в ОО муниципального района с первой ступени обучения, где ведется работа по выявлению увлечений и способностей детей на основе наблюдения, изучения психологических особенностей, речи, памяти, логического мышления. 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8 школах муниципального района созданы научные общества учащихся, деятельность которых осуществляется по следующим направлениям: химико-биологическое, эколого-биологическое, физико-математическое, краеведческое, историко-литературное, лингвистическое, общественно-гуманитарное и другие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Ежегодно в муниципальном районе проводится школьный этап ( для учащихся 4-11 классов) и муниципальный этап Всероссийской олимпиады школьников среди учащихся 7-11 классов по 19 предметам. Победители и призеры муниципального этапа принимают участие в региональном этапе (2016/2017  учебный год – 11 участников, из которых 1 учащаяся стала призером олимпиады по ОБЖ, 2017/2018 учебный год – 29 участников)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учреждениях общего образования педагоги организуют занятия, направленные на развитие познавательных интересов учащихся в выбранной ими области, освоение учебного материала, не предусмотренного образовательными стандартами, через кружки, факультативы, элективные курсы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1413000"/>
            <a:ext cx="74869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Вместе с тем, практика последних лет работы с одарёнными детьми в муниципальном районе показывает, что существуют проблемы и нереализованные возможности в организации работы с одарёнными детьми: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не создана в полном объёме учебно-материальная база для организации работы с одаренными детьми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рганизация работы с детьми, мотивированными на успех, в ОО носит локальный характер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тсутствие высоких достижений учащихся в олимпиадном движении регионального, всероссийского уровней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педагогические работники ОО не всегда готовы осуществлять психолого-педагогическую поддержку одаренных детей.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работа с одаренными детьми требует особой профессиональной подготовки педагогов, внедрения современного программного обеспечения.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Таким образом, проект «Одаренный ребенок = одаренный учитель» направлен на преодоление обозначенных проблем. 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спорт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Наименование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«Одаренный ребёнок = одаренный учитель»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Куратор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Дяксул Л.В. 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Операторы проекта: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МКУ «Районный методический кабинет» Ульчского муниципального района Хабаровского края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Цель проекта: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 создание современной образовательной среды для выявления и сопровождения одаренных детей.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Задачи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-974880" y="1487520"/>
            <a:ext cx="8137800" cy="5108400"/>
          </a:xfrm>
          <a:prstGeom prst="rect">
            <a:avLst/>
          </a:prstGeom>
          <a:ln w="0">
            <a:noFill/>
          </a:ln>
        </p:spPr>
      </p:pic>
      <p:pic>
        <p:nvPicPr>
          <p:cNvPr id="282" name="Схема 4" descr=""/>
          <p:cNvPicPr/>
          <p:nvPr/>
        </p:nvPicPr>
        <p:blipFill>
          <a:blip r:embed="rId2"/>
          <a:stretch/>
        </p:blipFill>
        <p:spPr>
          <a:xfrm>
            <a:off x="5437080" y="1316160"/>
            <a:ext cx="3382920" cy="479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ртнеры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828720" y="1603440"/>
            <a:ext cx="7486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Риски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700280"/>
          <a:ext cx="7417080" cy="4206960"/>
        </p:xfrm>
        <a:graphic>
          <a:graphicData uri="http://schemas.openxmlformats.org/drawingml/2006/table">
            <a:tbl>
              <a:tblPr/>
              <a:tblGrid>
                <a:gridCol w="3961080"/>
                <a:gridCol w="3456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Риски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Способы устранения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Незаинтересованность участников образовательного процесса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оздание системы поощрения как учащихся, так и педагогов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Дефицит высококвалифицированных высокомотивированных педагогических кадр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организация повышения квалификации педагогов, привлечение молодых специалист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лабая материально-техническая база, недостаточное финансирование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финансовое планирование, привлечение дополнительных финансовых средств (спонсорская помощь)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Ожидаемые результаты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8" name="Объект 4" descr=""/>
          <p:cNvPicPr/>
          <p:nvPr/>
        </p:nvPicPr>
        <p:blipFill>
          <a:blip r:embed="rId1"/>
          <a:stretch/>
        </p:blipFill>
        <p:spPr>
          <a:xfrm>
            <a:off x="804960" y="1603440"/>
            <a:ext cx="7553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0:01:16Z</dcterms:created>
  <dc:creator>Юрок</dc:creator>
  <dc:description/>
  <dc:language>en-US</dc:language>
  <cp:lastModifiedBy>Альбина Александровна Базгутдинова</cp:lastModifiedBy>
  <dcterms:modified xsi:type="dcterms:W3CDTF">2018-06-14T04:57:36Z</dcterms:modified>
  <cp:revision>50</cp:revision>
  <dc:subject/>
  <dc:title>Слайд 1</dc:title>
</cp:coreProperties>
</file>